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90066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680" y="3276720"/>
            <a:ext cx="9137520" cy="152280"/>
            <a:chOff x="4680" y="3276720"/>
            <a:chExt cx="9137520" cy="152280"/>
          </a:xfrm>
        </p:grpSpPr>
        <p:sp>
          <p:nvSpPr>
            <p:cNvPr id="2" name=""/>
            <p:cNvSpPr/>
            <p:nvPr/>
          </p:nvSpPr>
          <p:spPr>
            <a:xfrm>
              <a:off x="4680" y="3276720"/>
              <a:ext cx="913752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680" y="3390840"/>
              <a:ext cx="913752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90066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44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20574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na realnos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e i primj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b2b2b2"/>
                </a:solidFill>
                <a:latin typeface="Arial CE"/>
                <a:ea typeface="Arial CE"/>
              </a:rPr>
              <a:t>Doc. dr.sc. Sven Lončar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b2b2b2"/>
                </a:solidFill>
                <a:latin typeface="Arial CE"/>
                <a:ea typeface="Arial CE"/>
              </a:rPr>
              <a:t>Fakutet elektrotehnike i računar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b2b2b2"/>
                </a:solidFill>
                <a:latin typeface="Arial CE"/>
                <a:ea typeface="Arial CE"/>
              </a:rPr>
              <a:t>E-mail: sven.loncaric@fer.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b2b2b2"/>
                </a:solidFill>
                <a:latin typeface="Arial CE"/>
                <a:ea typeface="Arial CE"/>
              </a:rPr>
              <a:t>WWW: http://helga.zesoi.fer.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828800"/>
            <a:ext cx="7772760" cy="4572360"/>
          </a:xfrm>
          <a:custGeom>
            <a:avLst/>
            <a:gdLst/>
            <a:ahLst/>
            <a:rect l="0" t="0" r="r" b="b"/>
            <a:pathLst>
              <a:path w="21591" h="12701">
                <a:moveTo>
                  <a:pt x="0" y="5503"/>
                </a:moveTo>
                <a:lnTo>
                  <a:pt x="1904" y="846"/>
                </a:lnTo>
                <a:lnTo>
                  <a:pt x="9313" y="635"/>
                </a:lnTo>
                <a:lnTo>
                  <a:pt x="17569" y="0"/>
                </a:lnTo>
                <a:lnTo>
                  <a:pt x="21591" y="4445"/>
                </a:lnTo>
                <a:lnTo>
                  <a:pt x="21167" y="10796"/>
                </a:lnTo>
                <a:lnTo>
                  <a:pt x="16722" y="12701"/>
                </a:lnTo>
                <a:lnTo>
                  <a:pt x="9736" y="12066"/>
                </a:lnTo>
                <a:lnTo>
                  <a:pt x="2328" y="12489"/>
                </a:lnTo>
                <a:lnTo>
                  <a:pt x="0" y="5503"/>
                </a:lnTo>
                <a:close/>
              </a:path>
            </a:pathLst>
          </a:custGeom>
          <a:solidFill>
            <a:srgbClr val="00009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2590920"/>
            <a:ext cx="1448280" cy="1448280"/>
          </a:xfrm>
          <a:custGeom>
            <a:avLst/>
            <a:gdLst/>
            <a:ahLst/>
            <a:rect l="0" t="0" r="r" b="b"/>
            <a:pathLst>
              <a:path w="4023" h="4023">
                <a:moveTo>
                  <a:pt x="0" y="4023"/>
                </a:moveTo>
                <a:lnTo>
                  <a:pt x="4023" y="4023"/>
                </a:lnTo>
                <a:lnTo>
                  <a:pt x="4023" y="4023"/>
                </a:lnTo>
                <a:lnTo>
                  <a:pt x="4023" y="4023"/>
                </a:lnTo>
                <a:cubicBezTo>
                  <a:pt x="4023" y="3317"/>
                  <a:pt x="3837" y="2623"/>
                  <a:pt x="3484" y="2011"/>
                </a:cubicBezTo>
                <a:cubicBezTo>
                  <a:pt x="3131" y="1400"/>
                  <a:pt x="2623" y="892"/>
                  <a:pt x="2011" y="539"/>
                </a:cubicBezTo>
                <a:cubicBezTo>
                  <a:pt x="1400" y="186"/>
                  <a:pt x="706" y="0"/>
                  <a:pt x="0" y="0"/>
                </a:cubicBezTo>
                <a:lnTo>
                  <a:pt x="0" y="4023"/>
                </a:lnTo>
                <a:close/>
              </a:path>
            </a:pathLst>
          </a:custGeom>
          <a:solidFill>
            <a:srgbClr val="00cc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4038480"/>
            <a:ext cx="1448280" cy="1448280"/>
          </a:xfrm>
          <a:custGeom>
            <a:avLst/>
            <a:gdLst/>
            <a:ahLst/>
            <a:rect l="0" t="0" r="r" b="b"/>
            <a:pathLst>
              <a:path w="4023" h="4023">
                <a:moveTo>
                  <a:pt x="0" y="0"/>
                </a:moveTo>
                <a:lnTo>
                  <a:pt x="0" y="4023"/>
                </a:lnTo>
                <a:lnTo>
                  <a:pt x="0" y="4023"/>
                </a:lnTo>
                <a:cubicBezTo>
                  <a:pt x="706" y="4023"/>
                  <a:pt x="1400" y="3837"/>
                  <a:pt x="2012" y="3484"/>
                </a:cubicBezTo>
                <a:cubicBezTo>
                  <a:pt x="2623" y="3131"/>
                  <a:pt x="3131" y="2623"/>
                  <a:pt x="3484" y="2011"/>
                </a:cubicBezTo>
                <a:cubicBezTo>
                  <a:pt x="3837" y="1400"/>
                  <a:pt x="4023" y="706"/>
                  <a:pt x="402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cc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Ilustracija poboljšane real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057560" y="3465360"/>
            <a:ext cx="1157400" cy="190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484440" y="3067200"/>
            <a:ext cx="2387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boljšana real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84360" y="2163600"/>
            <a:ext cx="1892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varna ok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2590920"/>
            <a:ext cx="2895480" cy="28954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336840" y="3687840"/>
            <a:ext cx="1017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v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k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089680" y="3687840"/>
            <a:ext cx="1144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irtua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k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Teleprisut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engl. telepresence, virtual pre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teleprisutnost je osjećaj prisutnosti na lokaciji udaljenoj od lokacije fizičke prisut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sustav za teleprisutnost ima za cilj postići iluziju prisutnosti osobe na nekoj udaljenoj lokac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0880" y="1828800"/>
            <a:ext cx="8382240" cy="4572360"/>
          </a:xfrm>
          <a:custGeom>
            <a:avLst/>
            <a:gdLst/>
            <a:ahLst/>
            <a:rect l="0" t="0" r="r" b="b"/>
            <a:pathLst>
              <a:path w="23284" h="12701">
                <a:moveTo>
                  <a:pt x="846" y="11007"/>
                </a:moveTo>
                <a:lnTo>
                  <a:pt x="0" y="1481"/>
                </a:lnTo>
                <a:lnTo>
                  <a:pt x="1058" y="0"/>
                </a:lnTo>
                <a:lnTo>
                  <a:pt x="22014" y="1481"/>
                </a:lnTo>
                <a:lnTo>
                  <a:pt x="23284" y="5715"/>
                </a:lnTo>
                <a:lnTo>
                  <a:pt x="20532" y="8679"/>
                </a:lnTo>
                <a:lnTo>
                  <a:pt x="14606" y="11642"/>
                </a:lnTo>
                <a:lnTo>
                  <a:pt x="5503" y="12701"/>
                </a:lnTo>
                <a:lnTo>
                  <a:pt x="846" y="11007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Ilustracija teleprisut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3280" y="2971800"/>
            <a:ext cx="2781360" cy="3014640"/>
          </a:xfrm>
          <a:prstGeom prst="ellipse">
            <a:avLst/>
          </a:prstGeom>
          <a:solidFill>
            <a:srgbClr val="00cc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38240" y="3371760"/>
            <a:ext cx="1158840" cy="193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011240" y="3427560"/>
            <a:ext cx="114444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irtua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kol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kop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dalj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va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ko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3640" y="1935000"/>
            <a:ext cx="1892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varna ok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120080" y="2895480"/>
            <a:ext cx="576360" cy="961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V="1">
            <a:off x="2514600" y="2895480"/>
            <a:ext cx="4952880" cy="45720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124080" y="3809880"/>
            <a:ext cx="4572000" cy="14479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2590920"/>
            <a:ext cx="1600200" cy="1600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05120" y="2590920"/>
            <a:ext cx="5486400" cy="380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819520" y="4191120"/>
            <a:ext cx="4800600" cy="1600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40640" y="4068720"/>
            <a:ext cx="11444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dalj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v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k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2438280"/>
            <a:ext cx="2667240" cy="2895840"/>
          </a:xfrm>
          <a:custGeom>
            <a:avLst/>
            <a:gdLst/>
            <a:ahLst/>
            <a:rect l="0" t="0" r="r" b="b"/>
            <a:pathLst>
              <a:path w="7409" h="8044">
                <a:moveTo>
                  <a:pt x="635" y="3810"/>
                </a:moveTo>
                <a:lnTo>
                  <a:pt x="0" y="2540"/>
                </a:lnTo>
                <a:lnTo>
                  <a:pt x="1270" y="1693"/>
                </a:lnTo>
                <a:lnTo>
                  <a:pt x="1058" y="423"/>
                </a:lnTo>
                <a:lnTo>
                  <a:pt x="2963" y="635"/>
                </a:lnTo>
                <a:lnTo>
                  <a:pt x="4022" y="0"/>
                </a:lnTo>
                <a:lnTo>
                  <a:pt x="5081" y="1270"/>
                </a:lnTo>
                <a:lnTo>
                  <a:pt x="6351" y="1058"/>
                </a:lnTo>
                <a:lnTo>
                  <a:pt x="6351" y="2540"/>
                </a:lnTo>
                <a:lnTo>
                  <a:pt x="6986" y="4021"/>
                </a:lnTo>
                <a:lnTo>
                  <a:pt x="6562" y="5504"/>
                </a:lnTo>
                <a:lnTo>
                  <a:pt x="7409" y="6139"/>
                </a:lnTo>
                <a:lnTo>
                  <a:pt x="6139" y="7197"/>
                </a:lnTo>
                <a:lnTo>
                  <a:pt x="4869" y="7197"/>
                </a:lnTo>
                <a:lnTo>
                  <a:pt x="4234" y="8044"/>
                </a:lnTo>
                <a:lnTo>
                  <a:pt x="2540" y="6986"/>
                </a:lnTo>
                <a:lnTo>
                  <a:pt x="2328" y="5716"/>
                </a:lnTo>
                <a:lnTo>
                  <a:pt x="635" y="5292"/>
                </a:lnTo>
                <a:lnTo>
                  <a:pt x="635" y="3810"/>
                </a:lnTo>
                <a:close/>
              </a:path>
            </a:pathLst>
          </a:custGeom>
          <a:solidFill>
            <a:srgbClr val="d6009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79840" y="3306600"/>
            <a:ext cx="18493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br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komunkacij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mrež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Temelji virtualne real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temelji za virtualnu realnost, poboljšanu realnost i teleprisutnost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1. napredna (brza) račun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2. napredne (brze) komunikacijsk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3. uređaji za interakciju između čovjeka i računala (human-computer interfa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Realizacija virtualne real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umjetni podražaji (slika, zvuk, opip) potrebni za stvaranje virtualne realnosti generiraju se pomoću raču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ulaz u računalo su parametri trenutne pozicije čovjeka i očitanja raznih korisničkih uređ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na temelju ulaza računalo generira potrebne podražaje koji se šalju na uređaje koji stvaraju dojam prisutnosti u virtualnom svije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brze komunikacijske mreže omogućuju razmjenu informacija između udaljenih lok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Račun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koriste se računala opće namjene sa slijedećim zahtjevi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velika procesna moć za dovoljno brzo praćenje ulaznih parametara i generiranje grafičkog prikaza virtualnih svijetova velikih slož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jaki grafički sustav da bi se ubrzalo generiranje potrebnih slika svijeta za stereo prika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opularne platforme su: SGI, SUN, …,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konstantni napredak tehnologije pogoduje razvoju složenijih VR sust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Ulazni i izlazni uređa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ulazni uređa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3-D miševi, digitizeri, mehaničke ruke, rukavice, odij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uređaji za mjerenje pozicije (glava, o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izlazni uređa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uređaji za 3-D prikaz (stereo naočale, head-mounted display-i, projekto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uređaji za generiranje 3-D zvu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uređaji za generiranje osjeta opipa i s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uređaji za generiranje mir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Pregled ulaznih uređ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3-D miš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3-D digitiz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davači pozi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pozicija g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pozicija o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mehaničke r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ruka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odij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3D miševi i digitiz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3D mi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ima 6 stupnjeva slob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primjer: Ascension 6DOF 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3D digit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daje 3D koordinate točke  prosto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koristan je za izgradnju virtualnih svjet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primjer: Immersion Corp. Microscribe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867280" y="4114800"/>
            <a:ext cx="2581200" cy="1982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791320" y="1790640"/>
            <a:ext cx="264780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Davači pozi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0948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engl. track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davači pozicije mogu biti: elektromagnetski, mehanički, optički, akustički ili inercija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informacija o poziciji i orijentac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kvaliteta davača ovisi o rezoluciji, brzini mjer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imjer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Fastrack (Polhem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Flock of Birds (Ascen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867280" y="2048040"/>
            <a:ext cx="2695680" cy="1817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7288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Stud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ostdiplomski stu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D. Ćosić, dipl.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mr.sc. D. Ćos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D. Kovačević, dipl.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O. Rajković, dipl.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1016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Dodiplomski stu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Berislav Crkven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Zoran Majcen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Tomislav Markovin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Tomislav Petr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Darije Ramlj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Davači pozicije o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ate poziciju centra vidnog polja na retini (fov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na temelju smjera gledanja mogu se obavljati razne akcije (npr. promjena virtualne scene, navigaci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korištenje čovjekovog nervnog sustava za upravljanje virtualnih objekata (veza nervnog sustava i računa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uređaji za mjerenje pozicije oka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optički (smjer se određuje pomoću refleksija s ret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elektrookularni (preko elektroda na koži mjere korneoretinalni potencij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elektromagnetski (mjere indukciju u zavojnici pričvršćenoj za leć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CyberG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0948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čovjekova šaka ima 22 stupnja slob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rukavica daje računalu informaciju o položaju ša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imj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Virtual Technology CyberGl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ima 18 ili 22 senz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cijena $10.000-$1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0" y="2081160"/>
            <a:ext cx="39528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Dextrous 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09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mehanička ruka pričvrsti se za čovjekovu ru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omogućuje praćenje pokreta r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omogućuje i povratnu informaciju o s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npr. nailaskom na virtualnu prepreku onemogućuje se daljnji pomak ruke u tom smj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imjer: Dextrous Arm Master (Sarcos, In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033960" y="1967040"/>
            <a:ext cx="24447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CyberS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Virtual Technology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razvijeno za NASA primjene kao što su nadzor biomehanike astronauta u tijeku svemirskih let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daje pozicije svih zglobova, kuka, ramena, ru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bežič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05520" y="1014480"/>
            <a:ext cx="27622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Pregled izlaznih uređ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stereo naoč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head-mounted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b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uređaji za projekciju s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uređaji za prijenos zvu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uređaji za prijenos opipa i si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Stereo naoč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omogućuju 3-D vizualizaciju virtualnog svij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LCD tehnologija s naizmjeničnim zatvaranjem lijevog i desnog stakla sinkronizirano s pojavom lijeve i desne slike na ekranu moni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imjer: Crystal Eyes (Stereographics, In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581800" y="1957320"/>
            <a:ext cx="2847960" cy="1562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614920" y="3733920"/>
            <a:ext cx="28432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Head Mounted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0948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okazivači koji se stavljaju na glavu mogu bi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prozirni (okolina se vidi, npr. za pilo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neprozirni (ne vidi se okol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neki imaju ugrađene uređaje za davanje pozicije i orijen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važno: rezolucija, širina vidnog po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cijene: $500 - $25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477120" y="1928880"/>
            <a:ext cx="2309760" cy="17971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477120" y="4054320"/>
            <a:ext cx="231948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CyberTo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48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vibracijski stimulatori postavljeni na svakom prstu za prenošenje osjeta op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neophodno kada se želi koristiti ruke za interakciju s virtualnim svije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virtualni objekti se mogu “osjeti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114800" y="1943280"/>
            <a:ext cx="4714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VR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održavaju široke palete VR uređ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sadrže upravljačke programe za VR simul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imjeri VR razvojnih al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World Tool Kit (Sense8), CDK (Autodesk), dVise, Superscape VRT, V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3D razvojni al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CAD 3D programi, specijalizirani VRML progr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Primjer VR sust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948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CAVE, University of Chic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za vizualizacije u zna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ostor veličine sobe za više lj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3D video i audio oko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stereo naočale, 3D miš i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SGI Onyx + 3 Reality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976480" y="4792680"/>
            <a:ext cx="2414520" cy="1835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867280" y="1979640"/>
            <a:ext cx="30560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Plan preda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osnove virtualne rea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imjene virtualne rea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kratki prikaz CARNet projekta “Referentni centar za VRML tehnologiju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lanovi za buduće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itanja i diskus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Distribuirani VR susta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distribuirani VR sustav sastoji se od više umreženih računala i jednog virtualnog svije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svako računalo prati akcije korisnika i stvara privid njegove prisutnosti u zajedničkom virtualnom svij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svi korisnici su prisutni u istom virtualnom svijetu iako su možda fizički udalj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na taj način moguće je raditi složene simulacije s više učesnika i njihovom interakcijom (vojne simulaci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imjer programa za distribuirani V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NPSNET (Naval Postgraduate Sch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VRML - povij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Virtual Reality Modeling Language (VRML) je jezik za opis 3D scena s multimedijskim sadrža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VRML omogućuje predstavljanje 3D virtualnih svijetova na Intern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VRML je izrastao iz Silicon Graphics Open Inventor for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Silicon Graphics je glavni sponzor je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VRML 1.0 je prva verzija jezika (199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VRML 2.0 je obogaćena verzija jezika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VRML 97 je neformalno ime za ISO standard koji propisuje sintaksu je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VR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VRML može koristiti i Java prog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VRML svijetovi se gledaju pomoću VRML programa za pretraživanje (Internet browse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ostoje VRML plug-in-ovi za popularne pretraživače kao što su Netscape Navigator i Intern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izrada VRML svjeto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postoje konvertori iz mnogih CAD 3D formata u VR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specijalizirani programi za izgradnju VRML svjet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VR primj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VR omogućuje čovjeku obavljanje aktivnosti u virtualnom svijetu umjesto u pravom svij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VR je moguće koristiti 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uč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ispitivanje i kontrolu radnih sposob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tren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simul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vizualiz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diza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Područja VR primje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med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vizualizacije u kemiji, genetici, arhitekt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ojektiranje složenih sustava (struj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strojarst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tehnika (održavanje i servisiranje složenih susta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vojne primjene (simulato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umjetnost (likovna, muzičk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igre i zab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VR u medic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edukacija (npr. učenje anatomije, kirurških proced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kirur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vizualizacije (virtualna endoskopija, kolonoskopija, bronhoskopi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laniranje radioterap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stomatologija (implantologija, vizualizacije malih struk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telemedicina (teleradiologija, telekirurgi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rehabilit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VR u kirurgi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uč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laniranje kirurških procedura (surgical plan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modeliranje i vizualizacija individualnih anatomskih mo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planiranje abdominalnih oper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uvježbavanje kirurških procedura (surgical rehears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computer aided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računalom vođene biopsije pomoću HMD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pretvornici za opip za tele-kirurg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mikrokirurgija bez mikrosk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neurokirurg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minimalno invazivna kirurg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VR za laparoskopsku kirurgi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0948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za minimalno invazivne kirurg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uč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izvođenje oper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telekirurg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UC Berkeley projekt koristi laparoskopske simulatore firme Immersion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modeli bez i sa povratnom informacijom o s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510240" y="1924200"/>
            <a:ext cx="1905120" cy="23907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505560" y="4387680"/>
            <a:ext cx="19526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VR za telekirurgi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UC Berkeley projekt radi na sustavu za telekirurgiju sa povratnim osjetom sile i op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imjena: minimalno invazivna kirurgija (treniran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486320" y="3352680"/>
            <a:ext cx="3209760" cy="27338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295280" y="3352680"/>
            <a:ext cx="3200400" cy="274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305000" y="3352680"/>
            <a:ext cx="31719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VR u terapiji i rehabilitaci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uvježbavanje hendikepiranih os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liječenje fobija (visina, let, pau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smanjenje i kontrola boli kod opeko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arkinsonova bol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autiz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ispitivanje kognitivnih sposob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Osjeti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osjetil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vanjska (detektiraju pojave izvan organiz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unutarnja (detektiraju promjene unutar organiz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vanjska osjetila s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vid, sluh, toplina (daljinska osjeti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miris, opip, okus (kontaktna osjeti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unutarnja osjetila su: glad, umor, bol, že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VR u strojarstv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4648320"/>
            <a:ext cx="8001000" cy="17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University of Utah projekt VR veze s CAD/CAM sustavom Alpha 1 koji omogućuje manipulaciju objekata, sastavljanje, rast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mehanička ruka omogućuje prijenos sile (Sarcos Dextrous Arm Ma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52480" y="1738440"/>
            <a:ext cx="2444760" cy="2529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381480" y="1738440"/>
            <a:ext cx="1944720" cy="2529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400720" y="1738440"/>
            <a:ext cx="29275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VR za teleoper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48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engl. tele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Sarcos Dextrous Arm Slave” je ruka upravljana od “master” ruke i može služiti za teleoper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imje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daljinske manipul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podvodni robo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manipulacije u okolinama opasnim za čovje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teleprisut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562720" y="2100240"/>
            <a:ext cx="304308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VR za industrijski diza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48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automobilska industr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oblikovanje unutrašnjosti automob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ispitivanje funkciona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ergonomski diza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34120" y="2195640"/>
            <a:ext cx="28605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VR za molekularne manipul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48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Nanomanipulator projekt na Univ. of North Caro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ojekt povezuje mikroskope s VR sustavom za realizaciju tele-presence sustava koji radi na omjeru dimenzija od 1 milion 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omogućuje istraživanje i manipulaciju nanometarskih struktura (vir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067360" y="1981080"/>
            <a:ext cx="34196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Vojne primj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48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simulatori 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distribuirani VR simulatori za više učes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imjer: Sarcos Iport (individual port) susta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omogućuje  čovjeku ulaz u virtualni svijet uz mehaničke, vizualne i auditivne ef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razvijen za US Army distribuirane simul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HMD-i za pilote (poboljšana real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680160" y="1986120"/>
            <a:ext cx="19684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Wearable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480" y="1981080"/>
            <a:ext cx="5105520" cy="41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ideja: računalo se treba nositi kao npr. sat ili naoč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omogućuju niz novih aplikacija uključujući poboljšanje rea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US Army koristi takve sustave za pomoć pri servisiranju tehn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koristi se za pomoć kod složenih tehničkih sustava (avio tehn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u prozirnom display-u projecira se pomoćna slika sa uputama preko slike realnog ob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u display-u se projeciraju instruk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910120" y="2071800"/>
            <a:ext cx="2647800" cy="1790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919840" y="4067280"/>
            <a:ext cx="1562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Vizualiz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48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imje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kem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struj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arhitek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virtualne galer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geografske vizualiz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imj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vizualizacija brzine zračnih strujanja u meteorolog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8610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VR za anim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odijela omogućuju i generiranje animacija za robotske lik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teleoperacijsko upravljanje za daljinske ak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imj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Sensuit (Sarcos, Inc.) odij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181480" y="2014560"/>
            <a:ext cx="322416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VR u arhitekt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imjene VR u arhitekturi omogućuj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diza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evaluacija arhitektonskih rješenja je lakš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interaktivne walk-through simul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bolja prezentacija krajnjem korisniku (koji ima teškoća u interpretaciji klasične projektne dokumentac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korištenjem modernih CAD programa u projektiranju olakšava se konstrukcija virtualnih svjetova koji sadrže i građevinske obj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VR istraži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modeliranja svojstva materija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volumetrijski elastični mod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deformacije u realnom vremenu za simul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modeli propagacije s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uređaji za interakciju čovjeka i raču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prijenos s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osjet opipa, mirisa, ok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fiziološki i psihološki efekti simulatora (cyberpath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Percep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ercepcija je proces u kojem prikupljamo i interpretiramo informaciju o svijetu oko 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u procesu percepcije sudjeluju osjetila i moz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osjetila prenose informaciju o okol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mozak interpretira primljene inform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osim osjeta na percepciju utječe i iskustvo, znanje, emocije i motiv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Zaključ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virtualna realnost je područje aktivnog istraživanja u svij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imjene u mnogim područjima ljudske djelat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komercijalno su dobavljive potrebne komponente za izgradnju VR sust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VR tehnologija postaje sve pristupačnija cije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moguće je razvijati VR aplikacije na Windows NT platfor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cijene potrebnih komponenti počinju ispod $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napredak tehnologije usavršava VR komponente, smanjuje im cijenu i omogućuje nove primj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Referentni centar za VR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jednogodišnji CARNet 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nositelj projekta je Fakultet elektrotehnike i računar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ciljevi projek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stvoriti centar za praćenje razvoja VRML tehnolo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razviti WWW poslužitelj s informacijama vezanim za VR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popularizirati VRML tehnolog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pratiti i testirati programe za gledanje i razvoj virtualnih svjet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razviti virtualni svijet 3D Hrvatska na temelju GIS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VRML WWW poslužitel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WWW adresa: http://vrml.zesoi.fer.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oslužitelj sadrži slijedeće ele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Uvodna stra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Pregled programa za gledanje VRML datote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Pregled programa za izgradnju VRML datote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Virtualni svjet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Pokazivači na druge stranice od inte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Sklopovlje za virtualnu real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Djelatnici na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Virtualni svjet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Za demonstraciju upotrebe VRML jezka razvijeno je nekoliko pilot aplikacija i virtualnih svjeto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3D Hrvatska (interaktivna 3D vizualizacija Hrvatskog tere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Virtualna galerija sl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Virtualna endoskop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Sunčev sustav (VRML + Ja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Virtualna zg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3D Hrvat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interaktivna 3D vizualizacija Hrvats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http://vrml.zesoi.fer.hr/croa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digitalni podaci o nadmorskim visinama terena za Hrvatsku su korišteni da se izgradi model te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korisnik bira željenu regiju za vizualizaciju nakon čega se dinamički generira 3D model te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izna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uvrštena u VRML galeriju tvrtke Silicon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uvrštena u 50 najboljih WWW poslužitelja u Hrvatsk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poslužitelju dosad pristupilo više od 20.000 ljudi iz cijelog svij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Popularizacija VRML-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edstavljanje projekta na INFO saj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edstavljanje u TV emisiji Planet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edstavljanje u časopisima (BUG, Internet moni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razvijen VRML CD s multimedijskim prikazom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razvijen VRML WWW poslužitel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Međunarodne aktiv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započet je međunarodni CEEPUS projekt za istraživanje u području VR u medicini (virtualna endoskopi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osjete svjetskim istraživačkim laboratoriji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sudjelovanje na konferencijama s radovima nastalim kroz rad na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Zaključ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u svijetu postoji intenzivna znanstvena aktivnost u VR područ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VR tehnologija polako ulazi u zreliju faz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postoji veliki broj primjena u raznim područ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VR oprema je komercijalno dobavlj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VR sustavi sada dolaze i s pristupačnom cijen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CARNet projekt “Referentni VRML centar” dodatno je potaknuo razvoj VR tehnologije u Hrvatsk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Planovi za buduće aktiv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razviti VR sustave opće namjene za 3D vizualizacije i simulacije i primjenu u raznim područji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VR sustav “za svakoga” pristupačne cijene (Win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VR sustav za zahtjevne simulacije i vizualiz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formirati VR laboratorij koji bi bio na raspolaganju fakultetima i institutima Sveučilišta u Zagre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razviti VR sustav uz korištenje naprednih računala Sveučilišta i CARNet mreže za podršku najsloženijim numeričkim simulacij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okrenuti specifične projekte za razvoj VR sustava posebne namj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Kako prevariti sustav percepcij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Ideja: zamijeniti realne podražaje koje primaju čovjekova osjetila s umjetno generiranim podražaj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na taj način možemo realnu okolinu zamjeniti s prividnom okoli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osljedica: u sustavu za percepciju stvorit će se dojam o prisutnosti osobe u prividnoj, nepostojećoj okol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Virtualna real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takav dojam prisutnosti u prividnoj okolini koja ne postoji u stvarnosti zove se virtualna realnost ili virtualna stva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trenutni praktični dosezi ove ideje ograničeni  su (ne)mogućnošću da realne osjete vjerno nadomjestimo s umjetnim osje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oblem generiranja osje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kontaktne osjete je naročito teško prenijeti (opip, miris, ok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intenzivna istraživanja na interakciji čovjek-račun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novi načini komunikacije čovjek-računa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primjene (virtualna realnost, muzika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1905120"/>
            <a:ext cx="6477480" cy="4648680"/>
          </a:xfrm>
          <a:custGeom>
            <a:avLst/>
            <a:gdLst/>
            <a:ahLst/>
            <a:rect l="0" t="0" r="r" b="b"/>
            <a:pathLst>
              <a:path w="17993" h="12913">
                <a:moveTo>
                  <a:pt x="0" y="3599"/>
                </a:moveTo>
                <a:lnTo>
                  <a:pt x="846" y="0"/>
                </a:lnTo>
                <a:lnTo>
                  <a:pt x="17993" y="423"/>
                </a:lnTo>
                <a:lnTo>
                  <a:pt x="17358" y="5292"/>
                </a:lnTo>
                <a:lnTo>
                  <a:pt x="5504" y="12913"/>
                </a:lnTo>
                <a:lnTo>
                  <a:pt x="423" y="10797"/>
                </a:lnTo>
                <a:lnTo>
                  <a:pt x="0" y="359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Ilustracija virtualne real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25560" y="2743200"/>
            <a:ext cx="2781360" cy="3014640"/>
          </a:xfrm>
          <a:prstGeom prst="ellipse">
            <a:avLst/>
          </a:prstGeom>
          <a:solidFill>
            <a:srgbClr val="00cc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09640" y="3676680"/>
            <a:ext cx="1158840" cy="1933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392120" y="3198960"/>
            <a:ext cx="2019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irtualna ok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286000"/>
            <a:ext cx="1066680" cy="10666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4952880"/>
            <a:ext cx="1066680" cy="1066680"/>
          </a:xfrm>
          <a:prstGeom prst="ellipse">
            <a:avLst/>
          </a:prstGeom>
          <a:solidFill>
            <a:srgbClr val="00cc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22240" y="1935000"/>
            <a:ext cx="1892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varna ok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09680" y="2286000"/>
            <a:ext cx="3353040" cy="45720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971800" y="3200400"/>
            <a:ext cx="3048120" cy="23623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2819520"/>
            <a:ext cx="4267080" cy="213336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5791320"/>
            <a:ext cx="4343400" cy="22860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81840" y="2087640"/>
            <a:ext cx="2697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stv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(npr. udaljena) ok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05520" y="6049800"/>
            <a:ext cx="2852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nestvar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(npr. izmišljena) ok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ccc"/>
                </a:solidFill>
                <a:latin typeface="Times New Roman CE"/>
                <a:ea typeface="Times New Roman CE"/>
              </a:rPr>
              <a:t>Poboljšana real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engl. augmented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u nekim primjenama nije potrebno potpuno zamijeniti realnost s virtualnim svije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nekad je potrebno samo nadopuniti ili poboljšati realnost s nekim virtualnim dijelo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oboljšana realnost = stvarna + virtualna rea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  <a:ea typeface="Arial CE"/>
              </a:rPr>
              <a:t>primje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ff"/>
              </a:buClr>
              <a:buSzPct val="8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 CE"/>
                <a:ea typeface="Arial CE"/>
              </a:rPr>
              <a:t>računala koja se nose (engl. wearable compu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ven Loncaric</dc:creator>
  <dc:description/>
  <dc:language>en-US</dc:language>
  <cp:lastModifiedBy>Sven Loncaric</cp:lastModifiedBy>
  <cp:revision>0</cp:revision>
  <dc:subject/>
  <dc:title>Virtualna realnost: osnove i primjena</dc:title>
</cp:coreProperties>
</file>